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01E-363A-4E41-8653-375D413D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901-7323-4DDB-9AC7-E934E3D4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45C-B2E4-441C-984A-8462B36C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04B-8406-4CEA-815D-E3283148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9D9-9B40-47CD-BFB6-67081A85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E86F-C4A8-4233-AD95-5B60C0FE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636-B430-4ECD-B629-C7EDCAAB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0F93-3175-4101-B761-3105BE18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608-A5C2-439E-B5AC-EF96B195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388-0A39-4805-99AE-D4B1D4E4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891-4A6B-4EC7-AB55-CE2295F7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2BE-5123-4D99-9D66-0F6EA960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6011-F45C-4335-808D-888C72BA3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sc.discovery.com/technology/tech-10/wind-energy-top-countries.html" TargetMode="External"/><Relationship Id="rId2" Type="http://schemas.openxmlformats.org/officeDocument/2006/relationships/hyperlink" Target="http://www.buzzle.com/articles/advantages-disadvantages-wind-energy.html" TargetMode="External"/><Relationship Id="rId3" Type="http://schemas.openxmlformats.org/officeDocument/2006/relationships/hyperlink" Target="http://www.buzzle.com/articles/advantages-disadvantages-wind-energy.html" TargetMode="External"/><Relationship Id="rId4" Type="http://schemas.openxmlformats.org/officeDocument/2006/relationships/hyperlink" Target="http://www.buzzle.com/articles/advantages-disadvantages-wind-energy.html" TargetMode="External"/><Relationship Id="rId5" Type="http://schemas.openxmlformats.org/officeDocument/2006/relationships/hyperlink" Target="http://www.buzzle.com/articles/advantages-disadvantages-wind-energy.html" TargetMode="External"/><Relationship Id="rId6" Type="http://schemas.openxmlformats.org/officeDocument/2006/relationships/hyperlink" Target="http://www1.eere.energy.gov/windandhydro/wind_ad.html" TargetMode="External"/><Relationship Id="rId7" Type="http://schemas.openxmlformats.org/officeDocument/2006/relationships/hyperlink" Target="http://www.energyquest.ca.gov/story/chapter16.html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752480"/>
            <a:ext cx="457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Forte"/>
              </a:rPr>
              <a:t>Wi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32767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Lirieth A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Laque Nicho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Alyssa Ruqqi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rte"/>
              </a:rPr>
              <a:t>Wind Blow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2520" y="121896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is the result of pressure differences between two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moves from an area of higher pressure toward an area of lowe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er the difference in pressure, the stronger the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differences are normally created by the uneven heating and cooling of the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800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General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 energy is a form of energy that uses wind turbines to convert the kinetic energy of the wind into other forms of energ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mechanical energy for grinding grain or pumping water or electrical energy to power homes, schools, and so 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 energy can produce about 50 to 300 kilowatts of electricity ea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5638680"/>
            <a:ext cx="4876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038480" y="1447920"/>
            <a:ext cx="491508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05160" y="14475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ades of the turbine are attached to a hub that is mounted on a turning shaft which goes through a transmission box where the speed is continually incre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nsmission box is attached to a high speed shaft which turns on a generator that makes electric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s have to be above 12 to 14 m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urbine has a brake that keeps the blades from turning too fast and being dama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95324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e, abundant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distributed, readily available around the gl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apest way to produce energy on a large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no pollution, reduces toxic gas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nefit economy in rural areas since the turbines can be built on farms and ran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rge number of turbines have to be built to produc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ines create a large amount of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predi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dispatch able, cannot be st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higher inves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1523880"/>
            <a:ext cx="396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iller"/>
              </a:rPr>
              <a:t>Disadvantag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"/>
            <a:ext cx="838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335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Positives &amp; Neg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Wind Pot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304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st potential for land based wind power in the Midw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st potential for off shore wind power located on the pacific sh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5848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Power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76920" y="15235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ind energy mostly generated out of Germany and US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p 10 countries that can use wind power are Germany, Denmark, USA, Spain, India, china, Portugal, France, Italy, and the United Kingdo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495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sc.discovery.com/technology/tech-10/wind-energy-top-countri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057400"/>
            <a:ext cx="73915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buzzle.co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articles/advantages-disadvantages-wind-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nerg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1.eere.energy.gov/windandhydro/wind_a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energyquest.ca.gov/story/chapter16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7:47:50Z</dcterms:created>
  <dc:creator>sasd</dc:creator>
  <dc:description/>
  <dc:language>en-US</dc:language>
  <cp:lastModifiedBy>SASD</cp:lastModifiedBy>
  <dcterms:modified xsi:type="dcterms:W3CDTF">2009-04-23T16:44:27Z</dcterms:modified>
  <cp:revision>11</cp:revision>
  <dc:subject/>
  <dc:title>Wind</dc:title>
</cp:coreProperties>
</file>